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16A3-9AFF-4883-BA16-70DB7BDF4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F527-8EB8-4757-8ED1-66274FF37A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F1BD-66D4-4E37-A5B2-F94F449F47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1837-B703-4477-A94A-0A4AF2E5654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0559-6528-4AB7-BF00-DE65217860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EDBE-5288-4287-B274-72EFD7BD3A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E167-42D0-49E7-97A9-65905A96BC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63C4-707C-4755-AE3B-3BFCAB1354E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97CC-5573-4777-8D71-7E2D0DE4F6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E33-21D1-4E4B-B9BD-E82196DF48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C8D2-FA48-4308-9DD6-3F071F5CD1E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2C43-B0DA-4224-BCC1-C695B34138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EA41-79FF-4A31-93B9-15774D83D4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768D-3008-4918-963D-70D6B57EBC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F652-40FC-4558-9918-839E599D529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B0BA-030D-4C83-854A-D9AFB2C8B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4962-68FB-4976-BF65-4154C93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A840C-F2DA-45E0-AA3E-0B74DF67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C622B-7EBD-4B2D-9E7B-CC1F074DB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62A9-D083-4B14-A86D-9F64C731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1174-1D6A-4716-B819-65C5E6C9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7BAF-8694-4E1C-947A-551308CF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DAFEF-303E-4ADC-9E45-7B694411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3B22-AB53-4354-8EF7-8652EFF1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CBA3-61FD-43B7-966E-AA93696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2F0F-D824-44B2-B986-7EEEAAAB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38C0-3C9C-4AB2-BF7E-E78965E4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FFA7-BD69-4E69-BBAF-6CCECC0C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F9EC6-6415-4E6D-AA8A-5499D3BD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AE1F-65EA-4322-8400-06839891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BD0C-1F8E-4259-A79C-3B8B973B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9611-FE02-4D81-B80B-DD5C2BB0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6186-55F0-40D1-8C88-BD07D8AA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1E1DF-28EB-40DB-A0DE-8CB4E1EE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BE7CC-2C58-492E-8E3A-7DA1884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DA88-B60E-4F95-80EF-8EC96A73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5AAE-2B87-4B53-A23E-54C23D2F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918AD-15BC-4685-9AF4-A6ADD2E5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AE6D-F95C-4C05-A203-275380D6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66DC-F47B-4365-8F02-8F6976C444F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B4FF-E04A-42E6-908C-1E6D2BBC40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00"/>
                </a:solidFill>
                <a:latin typeface="Garamond"/>
              </a:rPr>
              <a:t>STYLES &amp; STRATEGI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260280"/>
            <a:ext cx="914400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b. Cognitive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Repetition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11. Contextualis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Resourcing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12. Elabor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Translation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13. Transf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Grouping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14. Inferenc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Note ta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De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Recombin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Image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Auditory represent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ff00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Garamond"/>
              </a:rPr>
              <a:t>Keywor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79280" y="333360"/>
            <a:ext cx="849636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. Socioeffective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Cooper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Question for clarif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50920" y="260280"/>
            <a:ext cx="8569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ommunication Strateg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voidance strateg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yntactic or lexical avoid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honological avoid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opic avoid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0" y="260280"/>
            <a:ext cx="8893080" cy="37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2. Compensatory strategi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efabricated patte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Code-switch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50920" y="33336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en Commandments for good language lear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981000"/>
          <a:ext cx="8209080" cy="6054840"/>
        </p:xfrm>
        <a:graphic>
          <a:graphicData uri="http://schemas.openxmlformats.org/drawingml/2006/table">
            <a:tbl>
              <a:tblPr/>
              <a:tblGrid>
                <a:gridCol w="720720"/>
                <a:gridCol w="3527280"/>
                <a:gridCol w="396108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eacher’s Ver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earner’s Ver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wer inhibi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ear n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courage risk-ta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ve 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uild self-confid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lieve in yourse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evelop intrinsic motiv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ize the da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age in cooperative le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ve thy neighb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e right-brain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t the BIG pic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mote ambiguity tole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pe with the cha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actice intu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o with your hunch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cess error feedba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ke mistakes work FOR yo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 personal go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et your own goa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0" y="333360"/>
            <a:ext cx="91440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Process, Style &amp; Strateg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ocess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humans engage in association, transfer, generalisation, and attri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process is a characteristic of every hu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0" y="260280"/>
            <a:ext cx="88930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yle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consistent  and rather enduring tendencies or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references within an individu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differentiates you from someone el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260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Strategies: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specific methods of approaching a problem or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task, modes of operation for achieving a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particular end, planned designs for controll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nd manipulating certain inform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vary intraindividual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179280" y="333360"/>
            <a:ext cx="8713800" cy="60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Learning Styl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also known as cognitive sty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used in handling a probl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”cognitive, affective, and physiological traits that are relatively stable indicators of how learners perceive, interact with, and respond to learning environment” (Keefe, 1979: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”a general predisposition, voluntary or not, toward processing information in a particular way” (Skehan 1991: 288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50920" y="333360"/>
            <a:ext cx="889308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A few significant contributors to successful second language acquis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field independ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eld indepen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your ability to perceive a particular, relevant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tem or factor in a “field” of distracting ite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b) Field depen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 the tendency to be ‘dependent’ on the tot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fiel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- also known as field sensit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260280"/>
            <a:ext cx="8785440" cy="50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mbiguity toler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 person to tolerate ambiguity is free to entertain a number of innovative and creative possibil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flectivity and Impulsiv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Impulsive (quick or gambling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flective (calculativ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333360"/>
            <a:ext cx="85694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Classroom Sett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Visu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Audi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250920" y="549360"/>
            <a:ext cx="8642160" cy="57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Learning Strategi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etacognitive strateg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dvance organise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irected atten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lective atten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lf-managemen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unctional plann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lf-monitor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elayed produ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elf-evalu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3:56:46Z</dcterms:created>
  <dc:creator>Bharathi Kutty</dc:creator>
  <dc:description/>
  <dc:language>en-US</dc:language>
  <cp:lastModifiedBy>Buckrie</cp:lastModifiedBy>
  <dcterms:modified xsi:type="dcterms:W3CDTF">2011-12-16T08:20:53Z</dcterms:modified>
  <cp:revision>2</cp:revision>
  <dc:subject/>
  <dc:title>STYLES &amp; STRATEGIES</dc:title>
</cp:coreProperties>
</file>